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664-386D-46AF-B5F5-34E0DE8B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956-76FF-4327-9A17-EE187B8A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6D5-EB48-4F38-9614-8B91C2CB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69A-80D6-4B30-9D7F-2C0809C9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F7F-2190-403E-B871-B4869F78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6BBA-CBE0-4C43-ABCD-B5C4B2A8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A5BA-0FC8-40F6-A083-3AE7A1E0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3994-0976-42B9-8BA4-9DD3881E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B60-1C5B-4463-9016-125AC9EA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566E-A304-44D4-988B-D77A4C84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089-25EC-4421-9E7E-34FF1549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FB7-9E81-4513-87C5-3FC07861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412C-A83C-4D5C-8D61-490818BFF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1" lang="en-US" sz="6200" spc="-1" strike="noStrike">
                <a:solidFill>
                  <a:srgbClr val="000000"/>
                </a:solidFill>
                <a:latin typeface="Comic Sans MS"/>
              </a:rPr>
              <a:t>Agresja i przemoc </a:t>
            </a:r>
            <a:br>
              <a:rPr sz="6200"/>
            </a:br>
            <a:r>
              <a:rPr b="1" lang="en-US" sz="6200" spc="-1" strike="noStrike">
                <a:solidFill>
                  <a:srgbClr val="000000"/>
                </a:solidFill>
                <a:latin typeface="Comic Sans MS"/>
              </a:rPr>
              <a:t>w szkole”</a:t>
            </a:r>
            <a:br>
              <a:rPr sz="2800"/>
            </a:br>
            <a:br>
              <a:rPr sz="10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TERIAŁY  SZKOLENIOW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LA RADY  PEDAGOGICZ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racował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gr Joanna Sulikow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gr  Alicja Wasilew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ubliczna Szkoła Podstawowa im. J. Iwaszkiewicza w Biał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PRZEMOC  A  AGRES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ielu utożsamia przemoc i agresję, jednak inni podejmują próby oddzielenia aktu przemocy od aktu agresji, przyjmując za podstawę tego rozdzielenia cel. Podkreśla się, że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celem agresji jest sprawienie cierpienia i zaszkodzenie ofierze,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odczas gdy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celem przemocy jest wywarcie pewnego rodzaju wpływu, pozbawienie drugiej osoby możliwości decydowania o sobie, zmuszanie jej do czegoś wbrew jej woli.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W agresji zawsze znajdziemy wyraźną intencję wyrządzenia szkody lub krzywdy przedmiotowi działania. Bez intencji nie ma agresj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atomiast specyfika przemocy polega na tym, że zadawanie bólu i cierpienia jednostce ma służyć jej podporządkowaniu się zadającemu ten bó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Agresja może być sposobem podporządkowania człowieka i pełni wówczas funkcję przemocy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. Jednak agresja nie zawsze zmierza do podporządkowania innego człowieka, jak również przemoc nie musi się manifestować poprzez agresj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Przemoc upokarza, powoduje cierpienia i nieobliczalne szkody, rodzi nienawiść i pragnienie odwetu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, tworzy błędne koło w stosunkach międzyludzkich. Nie ma w przemocy niczego, co w cywilizowanym świecie przemawiałoby za jej stosowaniem, co byłoby warte polece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ODZAJE ŹRÓDE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920" y="1752480"/>
          <a:ext cx="82296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229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zyczyny agresji u dzie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90400" y="1600200"/>
          <a:ext cx="7948800" cy="45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00200"/>
                    <a:ext cx="794880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791320" y="1455840"/>
            <a:ext cx="2971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468360" y="1297080"/>
            <a:ext cx="8098200" cy="3394080"/>
            <a:chOff x="468360" y="1297080"/>
            <a:chExt cx="8098200" cy="3394080"/>
          </a:xfrm>
        </p:grpSpPr>
        <p:cxnSp>
          <p:nvCxnSpPr>
            <p:cNvPr id="85" name="_s8208"/>
            <p:cNvCxnSpPr>
              <a:stCxn id="86" idx="1"/>
              <a:endCxn id="87" idx="2"/>
            </p:cNvCxnSpPr>
            <p:nvPr/>
          </p:nvCxnSpPr>
          <p:spPr>
            <a:xfrm rot="10800000">
              <a:off x="3907440" y="1947240"/>
              <a:ext cx="665640" cy="1829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8206"/>
            <p:cNvCxnSpPr>
              <a:stCxn id="89" idx="1"/>
              <a:endCxn id="87" idx="2"/>
            </p:cNvCxnSpPr>
            <p:nvPr/>
          </p:nvCxnSpPr>
          <p:spPr>
            <a:xfrm rot="10800000">
              <a:off x="3907440" y="1947240"/>
              <a:ext cx="665640" cy="251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8205"/>
            <p:cNvCxnSpPr>
              <a:stCxn id="91" idx="1"/>
              <a:endCxn id="87" idx="2"/>
            </p:cNvCxnSpPr>
            <p:nvPr/>
          </p:nvCxnSpPr>
          <p:spPr>
            <a:xfrm rot="10800000">
              <a:off x="3907440" y="1947240"/>
              <a:ext cx="665640" cy="114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8204"/>
            <p:cNvCxnSpPr>
              <a:stCxn id="93" idx="1"/>
              <a:endCxn id="87" idx="2"/>
            </p:cNvCxnSpPr>
            <p:nvPr/>
          </p:nvCxnSpPr>
          <p:spPr>
            <a:xfrm rot="10800000">
              <a:off x="3907440" y="1947240"/>
              <a:ext cx="665640" cy="4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7" name="_s8200"/>
            <p:cNvSpPr/>
            <p:nvPr/>
          </p:nvSpPr>
          <p:spPr>
            <a:xfrm>
              <a:off x="468360" y="1297080"/>
              <a:ext cx="6882480" cy="65088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Arial"/>
                </a:rPr>
                <a:t>Przyczyny zachowań agresywnych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201"/>
            <p:cNvSpPr/>
            <p:nvPr/>
          </p:nvSpPr>
          <p:spPr>
            <a:xfrm>
              <a:off x="4573080" y="2176560"/>
              <a:ext cx="3993480" cy="457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 rodzinny dziec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8202"/>
            <p:cNvSpPr/>
            <p:nvPr/>
          </p:nvSpPr>
          <p:spPr>
            <a:xfrm>
              <a:off x="4573080" y="2862360"/>
              <a:ext cx="3993480" cy="457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zkoł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8203"/>
            <p:cNvSpPr/>
            <p:nvPr/>
          </p:nvSpPr>
          <p:spPr>
            <a:xfrm>
              <a:off x="4573080" y="4233960"/>
              <a:ext cx="3993480" cy="457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di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8207"/>
            <p:cNvSpPr/>
            <p:nvPr/>
          </p:nvSpPr>
          <p:spPr>
            <a:xfrm>
              <a:off x="4573080" y="3548160"/>
              <a:ext cx="3993480" cy="457200"/>
            </a:xfrm>
            <a:prstGeom prst="roundRect">
              <a:avLst>
                <a:gd name="adj" fmla="val 16667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upa rówieśnic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Przyczyny tkwiące w domu rodzinny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k ciepła, zaangażowania w sprawy dziecka, brak zainteresowania ze strony rodzic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k akceptacji okazywany dzieck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błażliwość i przyzwolenia dla dziecka na stosowanie agresji wobec in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k konsekwencji i zgodności rodziców w procesie wychowawczy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k jasnego przekazu, co dobre, a co zł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k jasno wyznaczonych granic postępowa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esja i przemoc w dom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ychowanie w duchu „dziecko nie ma głosu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yzysy w dom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woistość postaw u rodzic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ment dziec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4382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Przyczyny tkwiące w szk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wiązane z instytucją i organizacją szkoł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łas, mała przestrzeń, ograniczona ruchliwość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ja ocen, ustalony i narzucony z góry porząde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nimowość uczni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zynniki związane z relacjami uczeń – nauczyciel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łód emocjonalny w kontakta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właściwe sposoby komunikowania się nauczycieli z uczniam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sja i przemoc na terenie szkoł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cje oparte na wymaganiach bez nagradzania i wzmacniania pozytywnych zachowań dzie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zynniki związane z procesem nauczan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byt dużo wymagań bez uwzględniania możliwości dzieck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k doceniania wysiłków dziec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sprawiedliwość w ocenianiu i traktowaniu uczniów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ło uwagi poświęcanej na rozładowanie napięć podczas lekcj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da, schematyzm lekcj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onad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rak konsekwentnej postawy nauczycieli wobec agresji; brak jasnych reguł życia szkolnego; brak poczucia współodpowiedzialności uczniów za życie szkoł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948360" y="1413000"/>
            <a:ext cx="1424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8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Przyczyny tkwiące w wpływie grupy rówieśnicze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1532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śladują osobę z grupy, ocenianą przez nich pozytywnie (jest ona odważna, silna, przebojowa), która zachowuje się agresywnie, a oni sami są często niepewni swojej pozycji w grup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zą, że używający przemocy uczniowie odnoszą korzyści, nie tracą swej popularności, a nawet ją wzmacniaj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śladowany przez nich uczeń unika negatywnych konsekwencj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grupie „rozmywa się” odpowiedzialność, zmniejsza się poczucie win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ługotrwałe dokuczanie „ofierze” powoduje, że uczniowie zmieniają do niej swój stosunek; ofiara w ich oczach jest coraz mniej wartościowa, zasługuje na swój los, poczucie winy maleje, wyrzuty sumienia słabn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3124440" cy="2108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05520" y="4495680"/>
            <a:ext cx="327636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6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8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0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RÓŻNICE MIĘDZY CHŁOPCAMI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A DZIEWCZYNK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24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ZIEWCZĘ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są częściej narażone na bardziej zawoalowaną i subtelną formę mobbningu aniżeli na otwarte, bezpośrednie atak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nękane są najczęściej przez chłopc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Century Schoolbook"/>
              </a:rPr>
              <a:t>preferują” bardziej wyrafinowane sposoby: obgadywanie koleżanek, plotki, intrygi, manipulowanie przyjaźniam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2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ŁOP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ą bardziej narażeni na szykany ze strony rówieśnik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ą częściej ofiarami ataków bezpośredni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nękani są najczęściej przez innych chłopc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zęściej biorą udział w szykanowaniu in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śród nich częściej dochodzi do przemocy fizyczne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7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8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Przyczyny tkwiące w przekazach mediów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glądanie aktów przemocy wpływa na uczenie się przez dzieci agresywnych zachowań, a zwłaszcza wyraźnie liczą się on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dy forma przemoc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awia agresorowi satysfakcję, daje nagrodę, nie jest kara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t demonstrowana przez osobę atrakcyjną, z którą dziecko może się utożsamić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t dokonywana przez wiele osó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t usprawiedliwiana wyższymi racjami społecznym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t przedstawiana jako aprobowana społecz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t pokazana realistycznie i atrakcyjnie (można ją naśladować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adto media obniżają poziom empatii wśród dzieci dla ofiar, uczą tolerancji wobec przemocy. Nie pokazują w pełni cierpienia i krzywdy ofiary przemo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752480" cy="162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348000" y="9079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77120" y="1295280"/>
            <a:ext cx="19080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ze"/>
              </a:rPr>
              <a:t>Formy przemocy spotykane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Gaze"/>
              </a:rPr>
              <a:t>w szkol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66720" y="2742840"/>
            <a:ext cx="48769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zemoc fizycz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zemoc słow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zemoc bez użycia słów i kontaktu fizyczne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6800" y="2286000"/>
            <a:ext cx="29001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omic Sans MS"/>
              </a:rPr>
              <a:t>CE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500" spc="-1" strike="noStrike">
                <a:solidFill>
                  <a:srgbClr val="ffffff"/>
                </a:solidFill>
                <a:latin typeface="Comic Sans MS"/>
              </a:rPr>
              <a:t>zwiększenie świadomości i stanu wiedzy o problemie agresji i przemocy,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500" spc="-1" strike="noStrike">
                <a:solidFill>
                  <a:srgbClr val="ffffff"/>
                </a:solidFill>
                <a:latin typeface="Comic Sans MS"/>
              </a:rPr>
              <a:t>podanie sposobów przeciwdziałania agresji wśród uczniów na terenie szkoły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바탕"/>
              </a:rPr>
              <a:t>PRZEMOC  FIZYCZ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bic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opycha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podstawianie nogi, kopa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wymuszanie pieniędzy, śniadań, atrakcyjnych ubrań, gadżet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zamykanie w toalecie lub innym pomieszczeni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niszczenie własnośc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imSun"/>
              </a:rPr>
              <a:t>opluw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2880" y="2147760"/>
            <a:ext cx="373392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angle"/>
              </a:rPr>
              <a:t>PRZEMOC  SŁOWNA: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ngle"/>
              </a:rPr>
              <a:t>przezywanie, wyzywanie, wulgarne zwroty, obrażani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ngle"/>
              </a:rPr>
              <a:t>wyśmiewanie, ośmieszani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ngle"/>
              </a:rPr>
              <a:t>groźby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ngle"/>
              </a:rPr>
              <a:t>plotkowani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ngle"/>
              </a:rPr>
              <a:t>namawianie się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Bang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angle"/>
              </a:rPr>
              <a:t>szanta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2246400"/>
            <a:ext cx="403848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PRZEMOC BEZ UŻYCIA SŁÓ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fornian FB"/>
              </a:rPr>
              <a:t> I KONTAKTU FIZYCZNEG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43434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wrogie ges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min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izolowanie, nie zauważanie, traktowanie jak powietrz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fornian FB"/>
              </a:rPr>
              <a:t>manipulowanie związk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48320" y="1738440"/>
            <a:ext cx="40384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sto MT"/>
              </a:rPr>
              <a:t>TYPY  OFI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PASYW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PROWOKUJĄ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</a:rPr>
              <a:t>TYPY SPRAWC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AKTYW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sto MT"/>
              </a:rPr>
              <a:t>PASYW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295280" y="198108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1905120"/>
            <a:ext cx="22860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409720" y="198108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1828800"/>
            <a:ext cx="15264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2286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5257800"/>
            <a:ext cx="111600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4724280"/>
            <a:ext cx="1333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CHY CHARAKTERYSTYCZ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765000"/>
            <a:ext cx="4038480" cy="57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FIARY  PRZEMO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wają przezywane, wyśmiewa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czas kłótni, zaczepek reagują płaczem lub ucieczk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zęsto szukają swoich rzeczy, które są chowane lub niszczo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ą siniaki, zadrapan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ędzają przerwy samotni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pracy w grupach wybierane są jako ostatni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yglądają na nieszczęśliw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ą trudności z mówieniem na forum klas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garszają się w nauc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ślą o sobie, że są „gorsze”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zują wstyd, że nie potrafią się bronić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ą izolowane, tracą zaufani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 mają przyjació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kają szkoły, „uciekają” w chorob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343040" y="91404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RAWCY PRZEMO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atwo irytują się, szydzą z innych, celowo mówią rzeczy, które mogą kogoś zranić, grożą, wyśmiewają się, popychają innych, niszczą cudze rzecz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gą być silniejsi od kolegów z klasy, zwłaszcza od swoich ofia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ą potrzebę dominowania i tyranizowania innych, chętnie uciekają się do przemocy i gróźb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ą porywczy, impulsywni, cechuje ich niski próg frustracji, mają trudności z przystosowaniem się do panujących nor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gólnie są zbuntowani, nieposłuszni i agresywni wobec dorosły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ą opinię twardych, nie współczują dręczonym uczni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e są niepewni ani przestraszen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sunkowo wcześnie zaczynają łamać normy społeczne i praw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zwyczaj mają poparcie przynajmniej małej grupki kolegów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4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4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4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4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1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8" dur="4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4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1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4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4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4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4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4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4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3" dur="1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4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4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1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4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4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1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4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4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1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1" dur="4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4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1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4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4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4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4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4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4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4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4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100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4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4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3366"/>
                </a:solidFill>
                <a:uFillTx/>
                <a:latin typeface="Century Schoolbook"/>
              </a:rPr>
              <a:t>Jak radzić sobie z przemocą w klasi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Ważne jest, aby nauczyciel unika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rzyku, obrażania, przezywania uczniów, sarkazmu, wyśmiewania, braku dyskrecji, izolowania niektórych uczniów, niesprawiedliwego oceniania, przypinania „łatek” uczniom, grożenia, rozkazów, nie dopuszczania uczniów do wypowiedzenia własnego zdania w sprawach dla niego istotnych i dotyczących jego oso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miętajmy, stosowanie przemocy powoduje, że uczniowie także uczą się ją stosować, a ponadto mogą dręczyć „naznaczonego” przez nauczyciela ucznia, czując jego nieme przyzwole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4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maga zwalczać agresję postawa nauczyciela polegająca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40360" y="14126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jasnym przekazywaniu norm zachowania obowiązujących w klasie, grupie społecz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raku akceptacji dla agresji i przemoc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prawiedliwym traktowaniu uczni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ozytywnym wzmacnianiu uczniów, nagradzaniu ich za pozytywne zachowa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rzykładzie „dobrego zachowania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ierpliwości i zrozumieni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erpet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konsekwen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35304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JAK NA CO DZIEŃ WALCZYĆ Z AGRESJ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Z uczniami klas starszych można spisać kontrakt, w którym zawrzemy zasady postępowania, granice prywatności i inne zasady ułatwiające współżycie w klasie. Kontrakt musi być podpisany przez wszystki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Z uczniami klas młodszych praca jest trudniejsza, bo „maluchy” jeszcze nie w pełni kontrolują swoje zachowanie. Dlatego w tej grupie nauczyciel cały czas przypomina, nakłania do dobrego zachowania, potępia akty przemocy wskazując inne rozwiązanie konfliktu, daje dobry przykład swoim zachowaniem i postawą, może też stosować nagrody za dobre zachowanie.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Ważne jest, aby nagradzać uczniów „niegrzecznych” za najmniejszy przejaw „dobrego zachowani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4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JAK POMÓC OFIERZE AGRESJ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kazywać uczniowi zainteresowanie, rozmawiać z nim na temat jego sytuacji w klasie, sposób radzenia sobie ze smutkiem, strachem, rozżalenie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zytywnie wzmacniać ucznia, dodawać mu odwagi, pokazywać dziecku jego mocne strony, podkreślać jego sukcesy, dowartościowywać je wspomagając budowanie wiary w sieb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czyć umiejętności reagowania w sytuacjach znęcania się, które przytrafiają się uczniowi, podawać wskazówki dotyczące reagowania na zaczepki, można poćwiczyć z dzieckiem w formie scen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kazać, w jaki sposób zachowanie ucznia może prowokować sprawców przemocy, wskazywać i uświadamiać konkretne przykłady zachowań prowokujących, pracować nad zmianą tego zachow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NAUCZYCIELOWI  NIE WOLNO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zypisywać winy dziecku za zaistniałą sytuację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gatelizować problemu dzieck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wać „dobre” rady, bez zbadania całej sytuacj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5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Ćw. 1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kojarzenia z wyrazem „agresja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630520" y="1812960"/>
            <a:ext cx="3813120" cy="4240080"/>
            <a:chOff x="2630520" y="1812960"/>
            <a:chExt cx="3813120" cy="4240080"/>
          </a:xfrm>
        </p:grpSpPr>
        <p:sp>
          <p:nvSpPr>
            <p:cNvPr id="49" name="_s22541"/>
            <p:cNvSpPr/>
            <p:nvPr/>
          </p:nvSpPr>
          <p:spPr>
            <a:xfrm flipH="1" flipV="1">
              <a:off x="3614760" y="3400200"/>
              <a:ext cx="463680" cy="26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2540"/>
            <p:cNvSpPr/>
            <p:nvPr/>
          </p:nvSpPr>
          <p:spPr>
            <a:xfrm>
              <a:off x="2630520" y="2610000"/>
              <a:ext cx="1058760" cy="105876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2543"/>
            <p:cNvSpPr/>
            <p:nvPr/>
          </p:nvSpPr>
          <p:spPr>
            <a:xfrm flipH="1">
              <a:off x="3614760" y="4197240"/>
              <a:ext cx="4651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2542"/>
            <p:cNvSpPr/>
            <p:nvPr/>
          </p:nvSpPr>
          <p:spPr>
            <a:xfrm>
              <a:off x="2630520" y="4199040"/>
              <a:ext cx="1058760" cy="105876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2545"/>
            <p:cNvSpPr/>
            <p:nvPr/>
          </p:nvSpPr>
          <p:spPr>
            <a:xfrm>
              <a:off x="4535640" y="4459320"/>
              <a:ext cx="1440" cy="53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2544"/>
            <p:cNvSpPr/>
            <p:nvPr/>
          </p:nvSpPr>
          <p:spPr>
            <a:xfrm>
              <a:off x="4006800" y="4994280"/>
              <a:ext cx="1058760" cy="105876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2547"/>
            <p:cNvSpPr/>
            <p:nvPr/>
          </p:nvSpPr>
          <p:spPr>
            <a:xfrm>
              <a:off x="4992840" y="4195800"/>
              <a:ext cx="463320" cy="26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2546"/>
            <p:cNvSpPr/>
            <p:nvPr/>
          </p:nvSpPr>
          <p:spPr>
            <a:xfrm>
              <a:off x="5384880" y="4199040"/>
              <a:ext cx="1058760" cy="105876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2539"/>
            <p:cNvSpPr/>
            <p:nvPr/>
          </p:nvSpPr>
          <p:spPr>
            <a:xfrm flipV="1">
              <a:off x="4992840" y="340164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2538"/>
            <p:cNvSpPr/>
            <p:nvPr/>
          </p:nvSpPr>
          <p:spPr>
            <a:xfrm>
              <a:off x="5384880" y="2608200"/>
              <a:ext cx="1058760" cy="105876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2537"/>
            <p:cNvSpPr/>
            <p:nvPr/>
          </p:nvSpPr>
          <p:spPr>
            <a:xfrm flipV="1">
              <a:off x="4535640" y="287028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22536"/>
            <p:cNvSpPr/>
            <p:nvPr/>
          </p:nvSpPr>
          <p:spPr>
            <a:xfrm>
              <a:off x="4006800" y="1812960"/>
              <a:ext cx="1058760" cy="105876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……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22535"/>
            <p:cNvSpPr/>
            <p:nvPr/>
          </p:nvSpPr>
          <p:spPr>
            <a:xfrm>
              <a:off x="4006800" y="3405240"/>
              <a:ext cx="1058760" cy="1058760"/>
            </a:xfrm>
            <a:prstGeom prst="ellipse">
              <a:avLst/>
            </a:prstGeom>
            <a:solidFill>
              <a:srgbClr val="fbdf5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RES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RADY  DLA  NAUCZYCIE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owiedz jasno, co widzisz – opisz zachowanie ucz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Zapewnij, że chcesz pomóc, że chodzi ci o to, aby przerwać przemoc w szko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aj uczniowi szansę wypowiedzenia się, wysłuchaj uważnie, jak mówi o swojej sytuacji w szko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ie neguj jego wypowiedz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eśli uczeń milczy – wróć jeszcze raz do chęci pomocy, nazwij swój cel – wspólne działanie, zwróć się do niego jak do eksperta i zaproś do współpra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ie oceniaj i nie krytykuj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taraj się jak najmniej doradzać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Jeżeli zamierzasz poprosić rodziców, poinformuj o tym ucz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ie traktuj spotkania z pedagogiem jako kary, wyjaśnij, że jest to jedna z form pomo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fiara przemocy nie czuje się bezpiecznie, dlatego musi dostać zapewnienie o ochro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9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9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9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9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9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0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9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9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9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9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10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9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I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aber, Mazush E., Jak mówić, żeby dzieci nas słuchały. Jak słuchać, żeby dzieci do nas mówiły. Poznań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lewus O., Mobbing – fala przemocy w szkole. Warszawa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S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łownik języka polskiego P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chowanie zmierzające do wyładowania niezadowolenia lub gniewu na osobach lub rzecz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łownik pedagogicz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ziałanie skierowane przeciwko ludziom lub przedmiotom wywołującym  u osobnika niezadowolenie lub gniew. Celem agresji jest wyrządzenie szkody przedmiotowi agresj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7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70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7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S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cyklopedia P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gie, zwykle gwałtowne działanie fizyczne lub słowne; jedno z następstw frustracji; niekiedy utrwalona cecha osobowości wyrażająca się agresywnymi postaw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ookman Old Style"/>
              </a:rPr>
              <a:t>AGRESJA</a:t>
            </a:r>
            <a:r>
              <a:rPr b="1" lang="en-US" sz="5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ziałanie, którego celem jest dokuczanie, zranienie, wyśmiewanie, grożenie jakiejś osobie, uszkodzenie kogoś lub zniszczenie jakiegoś przedmio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ZEM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łownik języka polskiego P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ła przeważająca czyjąś siłę, fizyczna przewaga wykorzystywana do czynów bezprawnych dokonywanych na kimś; narzucona bezprawnie władza; czyny bezprawne, dokonane z użyciem fizycznego przymusu; gwał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Bookman Old Style"/>
              </a:rPr>
              <a:t>PRZEMO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miejsce wtedy, gdy osoba mająca przewagę fizyczną lub psychiczną używa ją przeciwko słabszemu lub gdy grupa osób znęca się nad jedną osobą nie mającą szans wybronienia się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BB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chodzi od ang. 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mob -tłum, motłoch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; amer. – banda (o tłumie), napastować, oblega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edług Dana Olweusa: </a:t>
            </a:r>
            <a:r>
              <a:rPr b="0" i="1" lang="pl-PL" sz="3200" spc="-1" strike="noStrike">
                <a:solidFill>
                  <a:srgbClr val="000000"/>
                </a:solidFill>
                <a:latin typeface="Arial"/>
              </a:rPr>
              <a:t>„O zjawisku mobbningu można mówić wówczas, gdy ofiara przez dłuższy czas jest wielokrotnie narażona na negatywne działania ze strony innej osoby lub osób.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1:55:19Z</dcterms:created>
  <dc:creator>Administrator</dc:creator>
  <dc:description/>
  <dc:language>en-US</dc:language>
  <cp:lastModifiedBy>ADMIN</cp:lastModifiedBy>
  <dcterms:modified xsi:type="dcterms:W3CDTF">2005-04-12T11:09:48Z</dcterms:modified>
  <cp:revision>74</cp:revision>
  <dc:subject/>
  <dc:title>„Agresja i przemoc  w szkole”</dc:title>
</cp:coreProperties>
</file>